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breeze.wav" ContentType="audio/x-wav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A09-01E8-4E1B-B684-7869BF28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DE0-1B5E-4132-9041-2823E23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009-5573-418C-88AB-49F9DBFD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522-1A60-4491-97C6-8439EDF4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545-6BF0-454E-A525-3C6CEA1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20F-79D5-4A64-A86B-8A515D34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2C4-A138-4AB2-B1F5-BF9B387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F0E-0432-4378-99BB-918BDDD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4F7-74DE-40D5-B3EA-7EB2FF5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55F-91F4-411A-ADE1-7B09661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EC5-0CA7-4D09-9824-D241AA5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F6B-C76F-41A4-9748-5C21013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55B-CB41-4166-8296-A6F30F45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lsculptures.com/proddetail.php?prod=FS061&amp;cat=27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rkchurms.com/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llsculptures.com/products.php?cat=greek-roman-sculptures-statues" TargetMode="External"/><Relationship Id="rId2" Type="http://schemas.openxmlformats.org/officeDocument/2006/relationships/hyperlink" Target="http://edubuzz.org/blogs/lawupperfrench/2009/03/09/mon-arc-en-ciel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ainbow"/>
          <p:cNvPicPr/>
          <p:nvPr/>
        </p:nvPicPr>
        <p:blipFill>
          <a:blip r:embed="rId1"/>
          <a:stretch/>
        </p:blipFill>
        <p:spPr>
          <a:xfrm>
            <a:off x="-3886200" y="0"/>
            <a:ext cx="9829800" cy="495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Alexander the Great Hea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12640" y="762120"/>
            <a:ext cx="51264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cartoon-cloud-2"/>
          <p:cNvPicPr/>
          <p:nvPr/>
        </p:nvPicPr>
        <p:blipFill>
          <a:blip r:embed="rId4"/>
          <a:stretch/>
        </p:blipFill>
        <p:spPr>
          <a:xfrm>
            <a:off x="1600200" y="3276720"/>
            <a:ext cx="706752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1"/>
          <p:cNvSpPr/>
          <p:nvPr/>
        </p:nvSpPr>
        <p:spPr>
          <a:xfrm>
            <a:off x="4267080" y="472428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: Emily Smit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ison Ti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2590920" y="2286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Alex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396252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3886200" y="3276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6" descr="ist2_3053745-queen-crown"/>
          <p:cNvPicPr/>
          <p:nvPr/>
        </p:nvPicPr>
        <p:blipFill>
          <a:blip r:embed="rId5"/>
          <a:stretch/>
        </p:blipFill>
        <p:spPr>
          <a:xfrm rot="18035400">
            <a:off x="4191120" y="3580560"/>
            <a:ext cx="314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2 0.25208 C -0.21163 0.24398 -0.20695 0.24282 -0.20278 0.23588 C -0.2007 0.23264 -0.1974 0.22523 -0.1974 0.22546 C -0.19583 0.21875 -0.1908 0.20926 -0.18663 0.20532 C -0.18403 0.19537 -0.17899 0.18981 -0.17448 0.18194 C -0.17031 0.17454 -0.16771 0.1662 -0.16233 0.16018 C -0.15504 0.15208 -0.14653 0.14514 -0.13924 0.1368 C -0.1283 0.1243 -0.1184 0.1125 -0.10816 0.09907 C -0.10469 0.09444 -0.08889 0.08611 -0.08368 0.08287 C -0.07518 0.07083 -0.08507 0.08333 -0.07448 0.07384 C -0.07066 0.0706 -0.06372 0.06296 -0.06372 0.06319 C -0.0632 0.06111 -0.0632 0.05903 -0.06215 0.05764 C -0.06077 0.05579 -0.05868 0.05532 -0.05695 0.05393 C -0.05347 0.05139 -0.05104 0.04699 -0.0474 0.04491 C -0.04479 0.04352 -0.04202 0.04375 -0.03924 0.04305 C -0.03195 0.03935 -0.02656 0.03356 -0.0191 0.03055 C -0.01632 0.0294 -0.01372 0.02801 -0.01094 0.02685 C -0.00816 0.02569 -0.00278 0.02338 -0.00278 0.02361 C 0.00851 0.0118 0.02222 0.01065 0.03628 0.00903 C 0.04288 0.00602 0.04826 0.00324 0.05521 0.00162 C 0.06111 -0.00324 0.06614 -0.00394 0.07292 -0.00556 C 0.07951 -0.00972 0.08594 -0.01181 0.09305 -0.01458 C 0.11736 -0.01343 0.14184 -0.01296 0.16614 -0.01088 C 0.1743 -0.01019 0.17673 -0.00347 0.18368 0.00162 C 0.18559 0.00301 0.19635 0.00509 0.19722 0.00532 C 0.20035 0.00671 0.20347 0.00741 0.2066 0.00903 C 0.21319 0.01227 0.2158 0.0162 0.22292 0.01782 C 0.25069 0.03704 0.2783 0.04167 0.30937 0.04861 C 0.31545 0.05255 0.31962 0.05903 0.32552 0.06296 C 0.33837 0.07176 0.35017 0.07569 0.36476 0.07731 C 0.3776 0.08588 0.37153 0.08333 0.38229 0.08634 C 0.38455 0.08819 0.38663 0.09051 0.38906 0.0919 C 0.39114 0.09305 0.39375 0.09236 0.39583 0.09352 C 0.40208 0.09722 0.40764 0.10486 0.41476 0.1081 C 0.42726 0.12477 0.44392 0.13611 0.4566 0.15301 C 0.4684 0.16875 0.47257 0.1919 0.4809 0.21065 C 0.48403 0.22639 0.48021 0.20995 0.48507 0.22338 C 0.48628 0.22685 0.48698 0.23472 0.48767 0.23773 C 0.48941 0.24491 0.49149 0.25185 0.49305 0.25926 C 0.49479 0.26782 0.49583 0.27523 0.49722 0.28449 C 0.49792 0.28889 0.50035 0.29282 0.50121 0.29722 C 0.50312 0.30671 0.50382 0.31597 0.50798 0.3243 C 0.51198 0.34514 0.50642 0.31944 0.51198 0.3368 C 0.51493 0.34606 0.51458 0.35278 0.52014 0.36018 C 0.52292 0.3713 0.52326 0.38287 0.5283 0.39259 C 0.53021 0.4 0.53385 0.40555 0.53628 0.412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olas"/>
              </a:rPr>
              <a:t>Call me Crazy but these are all tru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the Great had two different colored eyes, one blue and one b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’s neck in some way twisted, so that he appeared to be gazing upward at an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had three wives, Roxane, Statiera, and Parysa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His horse is named Bucephalus, meaning ox-head, was a year younger than Alexander, and died at the age of 29, who was also afraid of his own sha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found a city called Alexandra Bucephalus, named after his beloved h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merican Typewriter"/>
              </a:rPr>
              <a:t>Alexander made his troops eat onions as he believed it would prove their vit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lexander the Gre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05320" y="1066680"/>
            <a:ext cx="33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Motion origin="layout" path="M 0.20104 0.161 L 1.68437 0.12769 E">
                                      <p:cBhvr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Believe it or…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Believe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conquered Syria and Phoen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became king of Macedonia, two years before he invaded the Persian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lexander was a king, at only the amazing age of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6a00d83451586c69e2011570b0e6f6970c-320wi&amp;t=1"/>
          <p:cNvPicPr/>
          <p:nvPr/>
        </p:nvPicPr>
        <p:blipFill>
          <a:blip r:embed="rId1"/>
          <a:stretch/>
        </p:blipFill>
        <p:spPr>
          <a:xfrm>
            <a:off x="7467480" y="4876920"/>
            <a:ext cx="14256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ALEXANDER   REALLY   IS “</a:t>
            </a:r>
            <a:r>
              <a:rPr b="0" i="1" lang="en-US" sz="3600" spc="-1" strike="noStrike">
                <a:solidFill>
                  <a:srgbClr val="ffffff"/>
                </a:solidFill>
                <a:latin typeface="Papyrus"/>
              </a:rPr>
              <a:t>THE GREAT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”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Alexander has been called “the Great” because he was always victorious and spread the Greek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334 B.C.E. Alexander defeated the Persian Empi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lexmap"/>
          <p:cNvPicPr/>
          <p:nvPr/>
        </p:nvPicPr>
        <p:blipFill>
          <a:blip r:embed="rId1"/>
          <a:stretch/>
        </p:blipFill>
        <p:spPr>
          <a:xfrm>
            <a:off x="3657600" y="4111560"/>
            <a:ext cx="5238720" cy="2503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209680" y="4952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’s Empire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TEAM ALEXANDER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Alexander fell ill and died at 33 years old on his journey back to Gre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is rule lasted 13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e came into ruling in 332 B.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in2"/>
          <p:cNvPicPr/>
          <p:nvPr/>
        </p:nvPicPr>
        <p:blipFill>
          <a:blip r:embed="rId1"/>
          <a:stretch/>
        </p:blipFill>
        <p:spPr>
          <a:xfrm>
            <a:off x="5791320" y="4343400"/>
            <a:ext cx="2143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t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allsculptures.com/products.php?cat=greek-roman-sculptures-stat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http://edubuzz.org/blogs/lawupperfrench/2009/03/09/mon-arc-en-cie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freewebs.com/dlfordivinelegacy/rk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timesonline.typepad.com/dons_life/2009/07/was-alexander-the-great-a-slav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library.thinkquest.org/10805/alexmap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makedonija.info/ancient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www.simplenomics.com/alexander-the-great-as-a-role-model-for-your-salesforce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20:32Z</dcterms:created>
  <dc:creator>Administrator</dc:creator>
  <dc:description/>
  <dc:language>en-US</dc:language>
  <cp:lastModifiedBy>Administrator</cp:lastModifiedBy>
  <dcterms:modified xsi:type="dcterms:W3CDTF">2010-12-20T14:13:40Z</dcterms:modified>
  <cp:revision>47</cp:revision>
  <dc:subject/>
  <dc:title>Slide 1</dc:title>
</cp:coreProperties>
</file>